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1.png" ContentType="image/png"/>
  <Override PartName="/ppt/media/image6.png" ContentType="image/png"/>
  <Override PartName="/ppt/media/image4.png" ContentType="image/pn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4E1C-B0EC-417D-88EC-B47B5A258BF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509D-3427-4765-8482-A15EE50C1E0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ADB2-8854-4DF7-B0B3-43E0C652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FCEE-E7DC-4BCD-856C-7FF3DCA7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916D-1C01-4C31-8B7B-95824501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F737-2D55-475B-B59D-719FE15B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003E-09DF-416B-9B65-530D8741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9DBF-43C9-4780-AE90-140AAE0C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C9A1-6D4F-481B-A001-1E189BFE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22BF-246E-4470-A767-9D54B4D6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6772-6FD9-432C-AADD-89A5489B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D9DA-BF95-4F4E-97D6-04D68E3B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1522-B527-4F4E-BEBE-C3ED22F9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3809-8A57-495D-A8A8-53438F36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3CEC-2496-40BA-A414-5842358FDFCB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91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OLILLA 7: Metabolismo de lípi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Biosíntesis de ácidos grasos saturados. Regulación. Requerimiento energético. Elongación de ácidos grasos. Desaturación de ácidos grasos. Acidos grasos esenciales. </a:t>
            </a:r>
            <a:r>
              <a:rPr b="0" lang="es-ES" sz="2400" spc="-1" strike="noStrike">
                <a:solidFill>
                  <a:srgbClr val="00b050"/>
                </a:solidFill>
                <a:latin typeface="Arial"/>
              </a:rPr>
              <a:t>Biosíntesis de triglicéri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00b050"/>
                </a:solidFill>
                <a:latin typeface="Arial"/>
              </a:rPr>
              <a:t>fosfoglicéridos: precursores y enzimas. Metabolismo del colesterol. Regulación. Excre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58360" y="279360"/>
            <a:ext cx="81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489400" y="749160"/>
            <a:ext cx="42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cc33"/>
                </a:solidFill>
                <a:latin typeface="Arial"/>
              </a:rPr>
              <a:t>Síntesis de Fosfolíp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9"/>
          <p:cNvGrpSpPr/>
          <p:nvPr/>
        </p:nvGrpSpPr>
        <p:grpSpPr>
          <a:xfrm>
            <a:off x="504720" y="1243080"/>
            <a:ext cx="8134560" cy="5354640"/>
            <a:chOff x="504720" y="1243080"/>
            <a:chExt cx="8134560" cy="5354640"/>
          </a:xfrm>
        </p:grpSpPr>
        <p:grpSp>
          <p:nvGrpSpPr>
            <p:cNvPr id="102" name="Group 6"/>
            <p:cNvGrpSpPr/>
            <p:nvPr/>
          </p:nvGrpSpPr>
          <p:grpSpPr>
            <a:xfrm>
              <a:off x="504720" y="1243080"/>
              <a:ext cx="8134560" cy="5354640"/>
              <a:chOff x="504720" y="1243080"/>
              <a:chExt cx="8134560" cy="5354640"/>
            </a:xfrm>
          </p:grpSpPr>
          <p:pic>
            <p:nvPicPr>
              <p:cNvPr id="103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504720" y="1243080"/>
                <a:ext cx="8134560" cy="535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Text Box 5"/>
              <p:cNvSpPr/>
              <p:nvPr/>
            </p:nvSpPr>
            <p:spPr>
              <a:xfrm>
                <a:off x="609480" y="1341360"/>
                <a:ext cx="7134840" cy="64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99"/>
                    </a:solidFill>
                    <a:latin typeface="Arial"/>
                  </a:rPr>
                  <a:t>1B. Síntesis de fosfatidilcolina a partir de fosfatidiletanolamina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8"/>
            <p:cNvSpPr/>
            <p:nvPr/>
          </p:nvSpPr>
          <p:spPr>
            <a:xfrm>
              <a:off x="3426480" y="3471840"/>
              <a:ext cx="226116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ff0066"/>
                  </a:solidFill>
                  <a:latin typeface="Arial"/>
                </a:rPr>
                <a:t>Fosfatidiletanolam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ff0066"/>
                  </a:solidFill>
                  <a:latin typeface="Arial"/>
                </a:rPr>
                <a:t>metil transf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3"/>
          <p:cNvSpPr/>
          <p:nvPr/>
        </p:nvSpPr>
        <p:spPr>
          <a:xfrm>
            <a:off x="558360" y="71280"/>
            <a:ext cx="81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53880" y="590400"/>
            <a:ext cx="853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Proporción lipídica en las membranas celula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de los hepatoc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4"/>
          <p:cNvGrpSpPr/>
          <p:nvPr/>
        </p:nvGrpSpPr>
        <p:grpSpPr>
          <a:xfrm>
            <a:off x="4788000" y="1484280"/>
            <a:ext cx="4200480" cy="5297040"/>
            <a:chOff x="4788000" y="1484280"/>
            <a:chExt cx="4200480" cy="5297040"/>
          </a:xfrm>
        </p:grpSpPr>
        <p:pic>
          <p:nvPicPr>
            <p:cNvPr id="109" name="Picture 3" descr=""/>
            <p:cNvPicPr/>
            <p:nvPr/>
          </p:nvPicPr>
          <p:blipFill>
            <a:blip r:embed="rId1"/>
            <a:stretch/>
          </p:blipFill>
          <p:spPr>
            <a:xfrm>
              <a:off x="4788000" y="1634760"/>
              <a:ext cx="4200480" cy="514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/>
            <p:cNvSpPr/>
            <p:nvPr/>
          </p:nvSpPr>
          <p:spPr>
            <a:xfrm>
              <a:off x="5303520" y="1484280"/>
              <a:ext cx="80676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embran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lasmát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8"/>
            <p:cNvSpPr/>
            <p:nvPr/>
          </p:nvSpPr>
          <p:spPr>
            <a:xfrm>
              <a:off x="5134320" y="2204640"/>
              <a:ext cx="9500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itocondri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nte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9"/>
            <p:cNvSpPr/>
            <p:nvPr/>
          </p:nvSpPr>
          <p:spPr>
            <a:xfrm>
              <a:off x="5134320" y="2631960"/>
              <a:ext cx="9500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itocondri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xte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5280480" y="3101760"/>
              <a:ext cx="7567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Lisosom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1"/>
            <p:cNvSpPr/>
            <p:nvPr/>
          </p:nvSpPr>
          <p:spPr>
            <a:xfrm>
              <a:off x="5549400" y="3533400"/>
              <a:ext cx="5616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Nucl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"/>
            <p:cNvSpPr/>
            <p:nvPr/>
          </p:nvSpPr>
          <p:spPr>
            <a:xfrm>
              <a:off x="5316480" y="3966840"/>
              <a:ext cx="7718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RE rugo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3"/>
            <p:cNvSpPr/>
            <p:nvPr/>
          </p:nvSpPr>
          <p:spPr>
            <a:xfrm>
              <a:off x="5316480" y="4365360"/>
              <a:ext cx="7920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RE li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6" descr="hepatocito"/>
          <p:cNvPicPr/>
          <p:nvPr/>
        </p:nvPicPr>
        <p:blipFill>
          <a:blip r:embed="rId2"/>
          <a:stretch/>
        </p:blipFill>
        <p:spPr>
          <a:xfrm>
            <a:off x="324000" y="1600200"/>
            <a:ext cx="4752720" cy="33415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558360" y="71280"/>
            <a:ext cx="81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2843280" y="907920"/>
            <a:ext cx="3816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C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611280" y="2149560"/>
            <a:ext cx="8048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Comic Sans MS"/>
              </a:rPr>
              <a:t>Aporte exógeno: dieta habitual 300 mg col./d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Síntesis endógena: 1 g col./d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Clr>
                <a:srgbClr val="ff3300"/>
              </a:buClr>
              <a:buFont typeface="Comic Sans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~ 50% se sintetiza en hí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Clr>
                <a:srgbClr val="ff3300"/>
              </a:buClr>
              <a:buFont typeface="Comic Sans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~ 50% se sintetiza en intestino, gónadas, glándulas suprarrenales, piel, músculo y tej. adip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558360" y="71280"/>
            <a:ext cx="81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2916360" y="765000"/>
            <a:ext cx="3816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C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5185080" cy="3247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1"/>
          <p:cNvSpPr/>
          <p:nvPr/>
        </p:nvSpPr>
        <p:spPr>
          <a:xfrm>
            <a:off x="539640" y="5302080"/>
            <a:ext cx="804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os C negros derivan del grupo metilo del acet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Times New Roman"/>
              </a:rPr>
              <a:t>Los C rojos derivan del carboxilo del acet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558360" y="71280"/>
            <a:ext cx="81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10-8"/>
          <p:cNvPicPr/>
          <p:nvPr/>
        </p:nvPicPr>
        <p:blipFill>
          <a:blip r:embed="rId1"/>
          <a:srcRect l="4222" t="10892" r="8443" b="7638"/>
          <a:stretch/>
        </p:blipFill>
        <p:spPr>
          <a:xfrm>
            <a:off x="1549440" y="1268280"/>
            <a:ext cx="597528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Picture 5" descr="10-9"/>
          <p:cNvPicPr/>
          <p:nvPr/>
        </p:nvPicPr>
        <p:blipFill>
          <a:blip r:embed="rId2"/>
          <a:stretch/>
        </p:blipFill>
        <p:spPr>
          <a:xfrm>
            <a:off x="5105520" y="3933720"/>
            <a:ext cx="3138480" cy="245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Text Box 6"/>
          <p:cNvSpPr/>
          <p:nvPr/>
        </p:nvSpPr>
        <p:spPr>
          <a:xfrm>
            <a:off x="611280" y="3078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Estructura del </a:t>
            </a:r>
            <a:r>
              <a:rPr b="1" lang="es-ES" sz="2400" spc="-1" strike="noStrike">
                <a:solidFill>
                  <a:srgbClr val="ff6600"/>
                </a:solidFill>
                <a:latin typeface="Arial"/>
              </a:rPr>
              <a:t>colesterol y su orientación en la bicapa lipidica de las membranas cel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fluid_mosiac"/>
          <p:cNvPicPr/>
          <p:nvPr/>
        </p:nvPicPr>
        <p:blipFill>
          <a:blip r:embed="rId3"/>
          <a:stretch/>
        </p:blipFill>
        <p:spPr>
          <a:xfrm>
            <a:off x="755640" y="3860640"/>
            <a:ext cx="4103640" cy="264168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619280" y="1312920"/>
            <a:ext cx="3278160" cy="4878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5376960" y="1693800"/>
            <a:ext cx="2896920" cy="36576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1331280" y="549360"/>
            <a:ext cx="65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Biosíntesis de Colesterol (fases princip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50920" y="1504800"/>
            <a:ext cx="2952720" cy="4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omic Sans MS"/>
              </a:rPr>
              <a:t>1- Condensación de acetatos para formar mevalona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50920" y="2724120"/>
            <a:ext cx="2952720" cy="42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Comic Sans MS"/>
              </a:rPr>
              <a:t>2- Conversión de mevalonato en unidades de isopreno activ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179280" y="4235400"/>
            <a:ext cx="302436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omic Sans MS"/>
              </a:rPr>
              <a:t>3- Polimerización de las unidades de isopreno para dar lugar al escual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859280" y="3213000"/>
            <a:ext cx="201780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omic Sans MS"/>
              </a:rPr>
              <a:t>4- Ciclaci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ó</a:t>
            </a:r>
            <a:r>
              <a:rPr b="1" lang="es-ES_tradnl" sz="1600" spc="-1" strike="noStrike">
                <a:solidFill>
                  <a:srgbClr val="ff0000"/>
                </a:solidFill>
                <a:latin typeface="Comic Sans MS"/>
              </a:rPr>
              <a:t>n del escualeno para dar lugar al Colester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58360" y="71280"/>
            <a:ext cx="81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3"/>
          <p:cNvGrpSpPr/>
          <p:nvPr/>
        </p:nvGrpSpPr>
        <p:grpSpPr>
          <a:xfrm>
            <a:off x="2790720" y="579600"/>
            <a:ext cx="4910040" cy="6278400"/>
            <a:chOff x="2790720" y="579600"/>
            <a:chExt cx="4910040" cy="6278400"/>
          </a:xfrm>
        </p:grpSpPr>
        <p:pic>
          <p:nvPicPr>
            <p:cNvPr id="139" name="Picture 3" descr=""/>
            <p:cNvPicPr/>
            <p:nvPr/>
          </p:nvPicPr>
          <p:blipFill>
            <a:blip r:embed="rId1"/>
            <a:stretch/>
          </p:blipFill>
          <p:spPr>
            <a:xfrm>
              <a:off x="4356000" y="579600"/>
              <a:ext cx="3344760" cy="62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10"/>
            <p:cNvSpPr/>
            <p:nvPr/>
          </p:nvSpPr>
          <p:spPr>
            <a:xfrm>
              <a:off x="4186800" y="4941720"/>
              <a:ext cx="8924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ff"/>
                  </a:solidFill>
                  <a:latin typeface="Arial"/>
                </a:rPr>
                <a:t>HMG-Co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ff"/>
                  </a:solidFill>
                  <a:latin typeface="Arial"/>
                </a:rPr>
                <a:t>reductas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1"/>
            <p:cNvSpPr/>
            <p:nvPr/>
          </p:nvSpPr>
          <p:spPr>
            <a:xfrm>
              <a:off x="2790720" y="2565360"/>
              <a:ext cx="22226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ff"/>
                  </a:solidFill>
                  <a:latin typeface="Arial"/>
                </a:rPr>
                <a:t>Hidroxi Metil Glutaril-Co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ff"/>
                  </a:solidFill>
                  <a:latin typeface="Arial"/>
                </a:rPr>
                <a:t>(HMG-CoA) sin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2"/>
            <p:cNvSpPr/>
            <p:nvPr/>
          </p:nvSpPr>
          <p:spPr>
            <a:xfrm>
              <a:off x="4426560" y="1268280"/>
              <a:ext cx="6148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ff"/>
                  </a:solidFill>
                  <a:latin typeface="Arial"/>
                </a:rPr>
                <a:t>Tiol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2"/>
          <p:cNvSpPr/>
          <p:nvPr/>
        </p:nvSpPr>
        <p:spPr>
          <a:xfrm>
            <a:off x="5040" y="620640"/>
            <a:ext cx="3823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Biosíntesis de Colest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(fase limitant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24000" y="1557360"/>
            <a:ext cx="3240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99"/>
                </a:solidFill>
                <a:latin typeface="Comic Sans MS"/>
              </a:rPr>
              <a:t>1- Condensación de acetatos para formar mevalon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340640" y="4005360"/>
            <a:ext cx="3807360" cy="1438920"/>
            <a:chOff x="1340640" y="4005360"/>
            <a:chExt cx="3807360" cy="1438920"/>
          </a:xfrm>
        </p:grpSpPr>
        <p:sp>
          <p:nvSpPr>
            <p:cNvPr id="146" name="Oval 5"/>
            <p:cNvSpPr/>
            <p:nvPr/>
          </p:nvSpPr>
          <p:spPr>
            <a:xfrm>
              <a:off x="4032360" y="4766760"/>
              <a:ext cx="1115640" cy="677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519640" y="4429080"/>
              <a:ext cx="1512720" cy="59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"/>
            <p:cNvSpPr/>
            <p:nvPr/>
          </p:nvSpPr>
          <p:spPr>
            <a:xfrm>
              <a:off x="1340640" y="4005360"/>
              <a:ext cx="1994400" cy="3373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nzima regulado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Oval 14"/>
          <p:cNvSpPr/>
          <p:nvPr/>
        </p:nvSpPr>
        <p:spPr>
          <a:xfrm>
            <a:off x="4213080" y="1557360"/>
            <a:ext cx="79236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5"/>
          <p:cNvSpPr/>
          <p:nvPr/>
        </p:nvSpPr>
        <p:spPr>
          <a:xfrm>
            <a:off x="4932360" y="1557360"/>
            <a:ext cx="79200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rc 16"/>
          <p:cNvSpPr/>
          <p:nvPr/>
        </p:nvSpPr>
        <p:spPr>
          <a:xfrm flipH="1" flipV="1">
            <a:off x="4860360" y="2059920"/>
            <a:ext cx="502920" cy="4316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7"/>
          <p:cNvSpPr/>
          <p:nvPr/>
        </p:nvSpPr>
        <p:spPr>
          <a:xfrm>
            <a:off x="4572000" y="5661000"/>
            <a:ext cx="1009800" cy="1197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8"/>
          <p:cNvSpPr/>
          <p:nvPr/>
        </p:nvSpPr>
        <p:spPr>
          <a:xfrm>
            <a:off x="4789440" y="4149720"/>
            <a:ext cx="79236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9"/>
          <p:cNvSpPr/>
          <p:nvPr/>
        </p:nvSpPr>
        <p:spPr>
          <a:xfrm>
            <a:off x="4932360" y="6597720"/>
            <a:ext cx="792000" cy="2602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24"/>
          <p:cNvGrpSpPr/>
          <p:nvPr/>
        </p:nvGrpSpPr>
        <p:grpSpPr>
          <a:xfrm>
            <a:off x="6516720" y="4437000"/>
            <a:ext cx="2196360" cy="1015920"/>
            <a:chOff x="6516720" y="4437000"/>
            <a:chExt cx="2196360" cy="1015920"/>
          </a:xfrm>
        </p:grpSpPr>
        <p:sp>
          <p:nvSpPr>
            <p:cNvPr id="156" name="Line 22"/>
            <p:cNvSpPr/>
            <p:nvPr/>
          </p:nvSpPr>
          <p:spPr>
            <a:xfrm>
              <a:off x="6516720" y="4437000"/>
              <a:ext cx="86364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23"/>
            <p:cNvSpPr/>
            <p:nvPr/>
          </p:nvSpPr>
          <p:spPr>
            <a:xfrm>
              <a:off x="6644160" y="5084640"/>
              <a:ext cx="206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uerpos cetón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3"/>
          <p:cNvSpPr/>
          <p:nvPr/>
        </p:nvSpPr>
        <p:spPr>
          <a:xfrm>
            <a:off x="558360" y="71280"/>
            <a:ext cx="81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Rounded MT Bold"/>
              </a:rPr>
              <a:t>Regulación de la Biosíntesis de Coles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uadro de texto 5"/>
          <p:cNvSpPr/>
          <p:nvPr/>
        </p:nvSpPr>
        <p:spPr>
          <a:xfrm>
            <a:off x="395280" y="2852640"/>
            <a:ext cx="3529080" cy="10159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99"/>
              </a:gs>
            </a:gsLst>
            <a:lin ang="5400000"/>
          </a:gra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33cc"/>
                </a:solidFill>
                <a:uFillTx/>
                <a:latin typeface="Arial"/>
                <a:ea typeface="Arial"/>
              </a:rPr>
              <a:t>HMG-CoA reduc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desfosforilada-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2"/>
          <p:cNvGrpSpPr/>
          <p:nvPr/>
        </p:nvGrpSpPr>
        <p:grpSpPr>
          <a:xfrm>
            <a:off x="3843000" y="1452240"/>
            <a:ext cx="2251440" cy="1329120"/>
            <a:chOff x="3843000" y="1452240"/>
            <a:chExt cx="2251440" cy="1329120"/>
          </a:xfrm>
        </p:grpSpPr>
        <p:sp>
          <p:nvSpPr>
            <p:cNvPr id="162" name="Línea 8"/>
            <p:cNvSpPr/>
            <p:nvPr/>
          </p:nvSpPr>
          <p:spPr>
            <a:xfrm flipV="1">
              <a:off x="3995640" y="1990800"/>
              <a:ext cx="2098800" cy="79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Elipse 9"/>
            <p:cNvSpPr/>
            <p:nvPr/>
          </p:nvSpPr>
          <p:spPr>
            <a:xfrm rot="20354400">
              <a:off x="3912840" y="1699920"/>
              <a:ext cx="1522440" cy="674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66"/>
                  </a:solidFill>
                  <a:latin typeface="Arial"/>
                  <a:ea typeface="Arial"/>
                </a:rPr>
                <a:t>Regul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66"/>
                  </a:solidFill>
                  <a:latin typeface="Arial"/>
                  <a:ea typeface="Arial"/>
                </a:rPr>
                <a:t>Alostér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Cuadro de texto 11"/>
          <p:cNvSpPr/>
          <p:nvPr/>
        </p:nvSpPr>
        <p:spPr>
          <a:xfrm>
            <a:off x="6238800" y="1125360"/>
            <a:ext cx="2376720" cy="1008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Ácidos biliares Colesterol     Mevalon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uadro de texto 12"/>
          <p:cNvSpPr/>
          <p:nvPr/>
        </p:nvSpPr>
        <p:spPr>
          <a:xfrm>
            <a:off x="6238800" y="2276640"/>
            <a:ext cx="2376720" cy="703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Medicamentos: Lovasta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lipse 13"/>
          <p:cNvSpPr/>
          <p:nvPr/>
        </p:nvSpPr>
        <p:spPr>
          <a:xfrm>
            <a:off x="5364000" y="1411200"/>
            <a:ext cx="792360" cy="505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23"/>
          <p:cNvGrpSpPr/>
          <p:nvPr/>
        </p:nvGrpSpPr>
        <p:grpSpPr>
          <a:xfrm>
            <a:off x="4067280" y="3533040"/>
            <a:ext cx="2881080" cy="1480320"/>
            <a:chOff x="4067280" y="3533040"/>
            <a:chExt cx="2881080" cy="1480320"/>
          </a:xfrm>
        </p:grpSpPr>
        <p:sp>
          <p:nvSpPr>
            <p:cNvPr id="168" name="Línea 6"/>
            <p:cNvSpPr/>
            <p:nvPr/>
          </p:nvSpPr>
          <p:spPr>
            <a:xfrm>
              <a:off x="4067280" y="4005360"/>
              <a:ext cx="2881080" cy="10080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Elipse 7"/>
            <p:cNvSpPr/>
            <p:nvPr/>
          </p:nvSpPr>
          <p:spPr>
            <a:xfrm rot="1300200">
              <a:off x="4716000" y="3789000"/>
              <a:ext cx="1511280" cy="64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66"/>
                  </a:solidFill>
                  <a:latin typeface="Arial"/>
                  <a:ea typeface="Arial"/>
                </a:rPr>
                <a:t>Regul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66"/>
                  </a:solidFill>
                  <a:latin typeface="Arial"/>
                  <a:ea typeface="Arial"/>
                </a:rPr>
                <a:t>Coval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Elipse 10"/>
          <p:cNvSpPr/>
          <p:nvPr/>
        </p:nvSpPr>
        <p:spPr>
          <a:xfrm>
            <a:off x="5938920" y="4956120"/>
            <a:ext cx="79200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lipse 14"/>
          <p:cNvSpPr/>
          <p:nvPr/>
        </p:nvSpPr>
        <p:spPr>
          <a:xfrm>
            <a:off x="6299280" y="4308480"/>
            <a:ext cx="792000" cy="5047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uadro de texto 15"/>
          <p:cNvSpPr/>
          <p:nvPr/>
        </p:nvSpPr>
        <p:spPr>
          <a:xfrm>
            <a:off x="7236000" y="4451400"/>
            <a:ext cx="1296720" cy="3988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uadro de texto 16"/>
          <p:cNvSpPr/>
          <p:nvPr/>
        </p:nvSpPr>
        <p:spPr>
          <a:xfrm>
            <a:off x="6875640" y="5100480"/>
            <a:ext cx="15840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Glucag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lipse 18"/>
          <p:cNvSpPr/>
          <p:nvPr/>
        </p:nvSpPr>
        <p:spPr>
          <a:xfrm>
            <a:off x="2268360" y="5013360"/>
            <a:ext cx="79236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uadro de texto 19"/>
          <p:cNvSpPr/>
          <p:nvPr/>
        </p:nvSpPr>
        <p:spPr>
          <a:xfrm>
            <a:off x="1979640" y="5589720"/>
            <a:ext cx="1728720" cy="3988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Colest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24"/>
          <p:cNvGrpSpPr/>
          <p:nvPr/>
        </p:nvGrpSpPr>
        <p:grpSpPr>
          <a:xfrm>
            <a:off x="395280" y="3932280"/>
            <a:ext cx="1800360" cy="1584360"/>
            <a:chOff x="395280" y="3932280"/>
            <a:chExt cx="1800360" cy="1584360"/>
          </a:xfrm>
        </p:grpSpPr>
        <p:sp>
          <p:nvSpPr>
            <p:cNvPr id="177" name="Línea 17"/>
            <p:cNvSpPr/>
            <p:nvPr/>
          </p:nvSpPr>
          <p:spPr>
            <a:xfrm>
              <a:off x="2195640" y="3932280"/>
              <a:ext cx="0" cy="158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Elipse 20"/>
            <p:cNvSpPr/>
            <p:nvPr/>
          </p:nvSpPr>
          <p:spPr>
            <a:xfrm>
              <a:off x="395280" y="4222800"/>
              <a:ext cx="1728720" cy="790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66"/>
                  </a:solidFill>
                  <a:latin typeface="Arial"/>
                  <a:ea typeface="Arial"/>
                </a:rPr>
                <a:t>Regul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66"/>
                  </a:solidFill>
                  <a:latin typeface="Arial"/>
                  <a:ea typeface="Arial"/>
                </a:rPr>
                <a:t>Transcripc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1 CuadroTexto"/>
          <p:cNvSpPr/>
          <p:nvPr/>
        </p:nvSpPr>
        <p:spPr>
          <a:xfrm>
            <a:off x="899280" y="395280"/>
            <a:ext cx="75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33"/>
                </a:solidFill>
                <a:latin typeface="Arial Rounded MT Bold"/>
                <a:ea typeface="Arial"/>
              </a:rPr>
              <a:t>Regulación de la Biosíntesis de Coles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lipse 13"/>
          <p:cNvSpPr/>
          <p:nvPr/>
        </p:nvSpPr>
        <p:spPr>
          <a:xfrm>
            <a:off x="5364000" y="2276640"/>
            <a:ext cx="79236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8"/>
          <p:cNvGrpSpPr/>
          <p:nvPr/>
        </p:nvGrpSpPr>
        <p:grpSpPr>
          <a:xfrm>
            <a:off x="1395360" y="1603440"/>
            <a:ext cx="6632640" cy="5113440"/>
            <a:chOff x="1395360" y="1603440"/>
            <a:chExt cx="6632640" cy="5113440"/>
          </a:xfrm>
        </p:grpSpPr>
        <p:pic>
          <p:nvPicPr>
            <p:cNvPr id="182" name="Picture 2" descr=""/>
            <p:cNvPicPr/>
            <p:nvPr/>
          </p:nvPicPr>
          <p:blipFill>
            <a:blip r:embed="rId1"/>
            <a:stretch/>
          </p:blipFill>
          <p:spPr>
            <a:xfrm>
              <a:off x="1395360" y="1603440"/>
              <a:ext cx="6632640" cy="511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6"/>
            <p:cNvSpPr/>
            <p:nvPr/>
          </p:nvSpPr>
          <p:spPr>
            <a:xfrm>
              <a:off x="2119680" y="4075200"/>
              <a:ext cx="170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(Células y tejid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7"/>
            <p:cNvSpPr/>
            <p:nvPr/>
          </p:nvSpPr>
          <p:spPr>
            <a:xfrm>
              <a:off x="2106360" y="4924440"/>
              <a:ext cx="66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(HDL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3 CuadroTexto"/>
          <p:cNvSpPr/>
          <p:nvPr/>
        </p:nvSpPr>
        <p:spPr>
          <a:xfrm flipH="1">
            <a:off x="324000" y="72720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ara su almacenamiento, el colesterol se puede esterificar con ácidos gra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206680" y="3592440"/>
            <a:ext cx="231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Oleil-CoA (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AT) 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inoleil-CoA (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C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558360" y="71280"/>
            <a:ext cx="81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rcRect l="-2631" t="0" r="2699" b="0"/>
          <a:stretch/>
        </p:blipFill>
        <p:spPr>
          <a:xfrm>
            <a:off x="1957320" y="189000"/>
            <a:ext cx="5400720" cy="6459480"/>
          </a:xfrm>
          <a:prstGeom prst="rect">
            <a:avLst/>
          </a:prstGeom>
          <a:ln w="0">
            <a:noFill/>
          </a:ln>
        </p:spPr>
      </p:pic>
      <p:sp>
        <p:nvSpPr>
          <p:cNvPr id="189" name="3 CuadroTexto"/>
          <p:cNvSpPr/>
          <p:nvPr/>
        </p:nvSpPr>
        <p:spPr>
          <a:xfrm>
            <a:off x="5154120" y="61437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sopreno act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79360" y="484200"/>
            <a:ext cx="8583480" cy="6400800"/>
          </a:xfrm>
          <a:prstGeom prst="rect">
            <a:avLst/>
          </a:prstGeom>
          <a:ln w="0">
            <a:noFill/>
          </a:ln>
        </p:spPr>
      </p:pic>
      <p:sp>
        <p:nvSpPr>
          <p:cNvPr id="51" name="Oval 3"/>
          <p:cNvSpPr/>
          <p:nvPr/>
        </p:nvSpPr>
        <p:spPr>
          <a:xfrm>
            <a:off x="1403280" y="1773360"/>
            <a:ext cx="1513080" cy="18730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"/>
          <p:cNvSpPr/>
          <p:nvPr/>
        </p:nvSpPr>
        <p:spPr>
          <a:xfrm>
            <a:off x="5075280" y="3645000"/>
            <a:ext cx="3529080" cy="30970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58360" y="38160"/>
            <a:ext cx="81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948960" y="444600"/>
            <a:ext cx="73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olesterol: precursor de otros compuestos bi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13600" y="1143000"/>
            <a:ext cx="59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stituyente membranas biológicas: flui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ecursor de hormonas esteroidales, ács. biliares, vit.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4"/>
          <p:cNvGraphicFramePr/>
          <p:nvPr/>
        </p:nvGraphicFramePr>
        <p:xfrm>
          <a:off x="4986360" y="2262240"/>
          <a:ext cx="3365640" cy="12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262240"/>
                    <a:ext cx="336564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Group 5"/>
          <p:cNvGrpSpPr/>
          <p:nvPr/>
        </p:nvGrpSpPr>
        <p:grpSpPr>
          <a:xfrm>
            <a:off x="911160" y="2255760"/>
            <a:ext cx="5032440" cy="4125960"/>
            <a:chOff x="911160" y="2255760"/>
            <a:chExt cx="5032440" cy="4125960"/>
          </a:xfrm>
        </p:grpSpPr>
        <p:pic>
          <p:nvPicPr>
            <p:cNvPr id="195" name="Picture 6" descr=""/>
            <p:cNvPicPr/>
            <p:nvPr/>
          </p:nvPicPr>
          <p:blipFill>
            <a:blip r:embed="rId3"/>
            <a:stretch/>
          </p:blipFill>
          <p:spPr>
            <a:xfrm>
              <a:off x="911160" y="2255760"/>
              <a:ext cx="3727440" cy="41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Line 7"/>
            <p:cNvSpPr/>
            <p:nvPr/>
          </p:nvSpPr>
          <p:spPr>
            <a:xfrm flipH="1" flipV="1">
              <a:off x="4533480" y="2285640"/>
              <a:ext cx="514440" cy="399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8"/>
            <p:cNvSpPr/>
            <p:nvPr/>
          </p:nvSpPr>
          <p:spPr>
            <a:xfrm flipH="1">
              <a:off x="4533480" y="3181320"/>
              <a:ext cx="552600" cy="3200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9"/>
            <p:cNvSpPr/>
            <p:nvPr/>
          </p:nvSpPr>
          <p:spPr>
            <a:xfrm>
              <a:off x="4915080" y="2685960"/>
              <a:ext cx="1028520" cy="476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Síntesis de los ácidos biliares, ácido cólico y ácido chenodeoxycholic"/>
          <p:cNvPicPr/>
          <p:nvPr/>
        </p:nvPicPr>
        <p:blipFill>
          <a:blip r:embed="rId1"/>
          <a:stretch/>
        </p:blipFill>
        <p:spPr>
          <a:xfrm>
            <a:off x="1123920" y="836640"/>
            <a:ext cx="7048440" cy="523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Object 6"/>
          <p:cNvGraphicFramePr/>
          <p:nvPr/>
        </p:nvGraphicFramePr>
        <p:xfrm>
          <a:off x="468360" y="5618160"/>
          <a:ext cx="3365280" cy="123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5618160"/>
                    <a:ext cx="336528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2" name="Group 10"/>
          <p:cNvGrpSpPr/>
          <p:nvPr/>
        </p:nvGrpSpPr>
        <p:grpSpPr>
          <a:xfrm>
            <a:off x="539280" y="1413000"/>
            <a:ext cx="7920360" cy="4968720"/>
            <a:chOff x="539280" y="1413000"/>
            <a:chExt cx="7920360" cy="4968720"/>
          </a:xfrm>
        </p:grpSpPr>
        <p:sp>
          <p:nvSpPr>
            <p:cNvPr id="203" name="Oval 7"/>
            <p:cNvSpPr/>
            <p:nvPr/>
          </p:nvSpPr>
          <p:spPr>
            <a:xfrm>
              <a:off x="1547640" y="5589720"/>
              <a:ext cx="1152720" cy="360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 flipH="1" flipV="1">
              <a:off x="539280" y="1413000"/>
              <a:ext cx="1368360" cy="4176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9"/>
            <p:cNvSpPr/>
            <p:nvPr/>
          </p:nvSpPr>
          <p:spPr>
            <a:xfrm>
              <a:off x="2698920" y="5805360"/>
              <a:ext cx="576072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2"/>
          <p:cNvSpPr/>
          <p:nvPr/>
        </p:nvSpPr>
        <p:spPr>
          <a:xfrm>
            <a:off x="250920" y="279360"/>
            <a:ext cx="8642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en Biol. Molec. e Ing. en Al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5e6d76"/>
              </a:gs>
              <a:gs pos="50000">
                <a:srgbClr val="ccecff"/>
              </a:gs>
              <a:gs pos="100000">
                <a:srgbClr val="5e6d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ALES Y ACIDOS BILI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ienen 24 C y 2 ó 3 hidroxi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n anfip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gentes emulsio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CIDOS BILIARES PRIMARI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:              (Cólico y Quenodesoxicol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CIDOS BILIARES SECUNDARI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Desoxicólico y Litocól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SALES BILIAR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GLICINA Y TAU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Glicocólico ó taurocól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611280" y="1341360"/>
            <a:ext cx="770400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Bibliograf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3- Docentes de Química Biológica, “</a:t>
            </a:r>
            <a:r>
              <a:rPr b="0" lang="es-AR" sz="1600" spc="-1" strike="noStrike">
                <a:solidFill>
                  <a:srgbClr val="333399"/>
                </a:solidFill>
                <a:latin typeface="Arial"/>
              </a:rPr>
              <a:t>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4- MURRAY R y col., “Bioquimica de Harper”, Ed. El Manual Moderno, 14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º ed. (199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2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836280"/>
            <a:ext cx="60958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"/>
              </a:rPr>
              <a:t>Funciones de los líp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94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14a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d14a2f"/>
                </a:solidFill>
                <a:latin typeface="Arial"/>
              </a:rPr>
              <a:t>Fuente de reserva energética (Trigliceri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Componentes de membranas</a:t>
            </a:r>
            <a:r>
              <a:rPr b="1" lang="es-ES" sz="2400" spc="-1" strike="noStrike">
                <a:solidFill>
                  <a:srgbClr val="d14a2f"/>
                </a:solidFill>
                <a:latin typeface="Arial"/>
              </a:rPr>
              <a:t> (Fosfolipidos y coleste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95e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d95e27"/>
                </a:solidFill>
                <a:latin typeface="Arial"/>
              </a:rPr>
              <a:t>Reguladores Biológicos (hormonas esteroide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46c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d46c2c"/>
                </a:solidFill>
                <a:latin typeface="Arial"/>
              </a:rPr>
              <a:t>Pigmentos (retinol, caroten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d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dc5d24"/>
                </a:solidFill>
                <a:latin typeface="Arial"/>
              </a:rPr>
              <a:t>Cofactores (vitamina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76b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d76b29"/>
                </a:solidFill>
                <a:latin typeface="Arial"/>
              </a:rPr>
              <a:t>Detergentes (ácidos bilia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980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d98027"/>
                </a:solidFill>
                <a:latin typeface="Arial"/>
              </a:rPr>
              <a:t>Transportadores (dolico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d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dc5d24"/>
                </a:solidFill>
                <a:latin typeface="Arial"/>
              </a:rPr>
              <a:t>Mensajeros celulares (eicosanoides, derivados de fosfatidil inosit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Ancladores de 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10-1"/>
          <p:cNvPicPr/>
          <p:nvPr/>
        </p:nvPicPr>
        <p:blipFill>
          <a:blip r:embed="rId1"/>
          <a:stretch/>
        </p:blipFill>
        <p:spPr>
          <a:xfrm>
            <a:off x="5797440" y="3213000"/>
            <a:ext cx="3095640" cy="21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Picture 7" descr="10-2"/>
          <p:cNvPicPr/>
          <p:nvPr/>
        </p:nvPicPr>
        <p:blipFill>
          <a:blip r:embed="rId2"/>
          <a:srcRect l="0" t="0" r="2630" b="0"/>
          <a:stretch/>
        </p:blipFill>
        <p:spPr>
          <a:xfrm>
            <a:off x="108000" y="3068640"/>
            <a:ext cx="5638680" cy="32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Text Box 3"/>
          <p:cNvSpPr/>
          <p:nvPr/>
        </p:nvSpPr>
        <p:spPr>
          <a:xfrm>
            <a:off x="558360" y="71280"/>
            <a:ext cx="81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8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1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4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7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0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3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6" dur="2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9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1908000" y="44280"/>
            <a:ext cx="53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cc33"/>
                </a:solidFill>
                <a:latin typeface="Arial"/>
              </a:rPr>
              <a:t>Fosfolíp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cc33"/>
                </a:solidFill>
                <a:latin typeface="Arial"/>
              </a:rPr>
              <a:t>(Fosfoglic</a:t>
            </a:r>
            <a:r>
              <a:rPr b="1" i="1" lang="en-US" sz="2400" spc="-1" strike="noStrike">
                <a:solidFill>
                  <a:srgbClr val="33cc33"/>
                </a:solidFill>
                <a:latin typeface="Arial"/>
                <a:ea typeface="Arial"/>
              </a:rPr>
              <a:t>é</a:t>
            </a:r>
            <a:r>
              <a:rPr b="1" i="1" lang="es-ES_tradnl" sz="2400" spc="-1" strike="noStrike">
                <a:solidFill>
                  <a:srgbClr val="33cc33"/>
                </a:solidFill>
                <a:latin typeface="Arial"/>
              </a:rPr>
              <a:t>ri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730080" y="1011240"/>
            <a:ext cx="7683840" cy="55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730080" y="1011240"/>
            <a:ext cx="7694640" cy="5524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4948200" y="3544920"/>
            <a:ext cx="2714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1979640" y="5013360"/>
            <a:ext cx="1368360" cy="2872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24000" y="534960"/>
            <a:ext cx="8089920" cy="62071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558360" y="0"/>
            <a:ext cx="81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2BC5-40B8-42A4-AB8C-56CD4E7CF5B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2 Rectángulo"/>
          <p:cNvSpPr/>
          <p:nvPr/>
        </p:nvSpPr>
        <p:spPr>
          <a:xfrm>
            <a:off x="324000" y="860400"/>
            <a:ext cx="849600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66ff"/>
                </a:solidFill>
                <a:uFillTx/>
                <a:latin typeface="Comic Sans MS"/>
                <a:ea typeface="Arial"/>
              </a:rPr>
              <a:t>Funciones de los Fosfolíp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66"/>
                </a:solidFill>
                <a:latin typeface="Comic Sans MS"/>
                <a:ea typeface="Arial"/>
              </a:rPr>
              <a:t>Los fosfolípidos se encuentran presentes principalmente en las membranas biológicas, cumplen funciones vitales en la célu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66"/>
                </a:solidFill>
                <a:latin typeface="Comic Sans MS"/>
                <a:ea typeface="Arial"/>
              </a:rPr>
              <a:t>Regulando la permeabilidad cel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66"/>
                </a:solidFill>
                <a:latin typeface="Comic Sans MS"/>
                <a:ea typeface="Arial"/>
              </a:rPr>
              <a:t>Interviniendo en la solubilización de compuestos poco po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66"/>
                </a:solidFill>
                <a:latin typeface="Comic Sans MS"/>
                <a:ea typeface="Arial"/>
              </a:rPr>
              <a:t>En el proceso de coagulación sangu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66"/>
                </a:solidFill>
                <a:latin typeface="Comic Sans MS"/>
                <a:ea typeface="Arial"/>
              </a:rPr>
              <a:t>Formando parte de la vaina de mielina de neuronas y de partículas transportadoras de electr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66"/>
                </a:solidFill>
                <a:latin typeface="Comic Sans MS"/>
                <a:ea typeface="Arial"/>
              </a:rPr>
              <a:t>Participando en las vías de señalización cel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66"/>
                </a:solidFill>
                <a:latin typeface="Comic Sans MS"/>
                <a:ea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58360" y="142920"/>
            <a:ext cx="81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DBDE-E9F9-47F0-8B1A-B36D240B2E9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3419640" y="477720"/>
            <a:ext cx="5545080" cy="597564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8"/>
          <p:cNvGrpSpPr/>
          <p:nvPr/>
        </p:nvGrpSpPr>
        <p:grpSpPr>
          <a:xfrm>
            <a:off x="250920" y="1628640"/>
            <a:ext cx="5184720" cy="2288520"/>
            <a:chOff x="250920" y="1628640"/>
            <a:chExt cx="5184720" cy="2288520"/>
          </a:xfrm>
        </p:grpSpPr>
        <p:sp>
          <p:nvSpPr>
            <p:cNvPr id="72" name="2 CuadroTexto"/>
            <p:cNvSpPr/>
            <p:nvPr/>
          </p:nvSpPr>
          <p:spPr>
            <a:xfrm>
              <a:off x="250920" y="1628640"/>
              <a:ext cx="2952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33cc33"/>
                  </a:solidFill>
                  <a:latin typeface="Comic Sans MS"/>
                  <a:ea typeface="Arial"/>
                </a:rPr>
                <a:t>Las enzimas de la síntesis de FL se encuentran insertas en las membranas del 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"/>
            <p:cNvSpPr/>
            <p:nvPr/>
          </p:nvSpPr>
          <p:spPr>
            <a:xfrm>
              <a:off x="3132000" y="1844640"/>
              <a:ext cx="2303640" cy="360360"/>
            </a:xfrm>
            <a:prstGeom prst="line">
              <a:avLst/>
            </a:prstGeom>
            <a:ln w="442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6"/>
            <p:cNvSpPr/>
            <p:nvPr/>
          </p:nvSpPr>
          <p:spPr>
            <a:xfrm>
              <a:off x="3132000" y="2060640"/>
              <a:ext cx="2160720" cy="863640"/>
            </a:xfrm>
            <a:prstGeom prst="line">
              <a:avLst/>
            </a:prstGeom>
            <a:ln w="442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3"/>
          <p:cNvSpPr/>
          <p:nvPr/>
        </p:nvSpPr>
        <p:spPr>
          <a:xfrm>
            <a:off x="558360" y="71280"/>
            <a:ext cx="81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 ESTRATEGIAS DIFERENTES PARA LA BIOSINTESIS DE FOSFOGLICER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Activación del esqueleto hidrofo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Activacion de la cabeza p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84360" y="3429000"/>
            <a:ext cx="8064360" cy="459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ido fosfatídico +  CTP         CDP-diacilglicerol  + P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4357800" y="3645000"/>
            <a:ext cx="6476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 rot="20962200">
            <a:off x="4354920" y="2421000"/>
            <a:ext cx="2808360" cy="6426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CDP-ácido fosfatídico-citidil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7"/>
          <p:cNvGrpSpPr/>
          <p:nvPr/>
        </p:nvGrpSpPr>
        <p:grpSpPr>
          <a:xfrm>
            <a:off x="611280" y="5516640"/>
            <a:ext cx="7920000" cy="459720"/>
            <a:chOff x="611280" y="5516640"/>
            <a:chExt cx="7920000" cy="459720"/>
          </a:xfrm>
        </p:grpSpPr>
        <p:sp>
          <p:nvSpPr>
            <p:cNvPr id="82" name="Text Box 8"/>
            <p:cNvSpPr/>
            <p:nvPr/>
          </p:nvSpPr>
          <p:spPr>
            <a:xfrm>
              <a:off x="611280" y="5516640"/>
              <a:ext cx="7920000" cy="45972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Fosforilcolina  +  CTP             CDP-colina  +  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9"/>
            <p:cNvSpPr/>
            <p:nvPr/>
          </p:nvSpPr>
          <p:spPr>
            <a:xfrm>
              <a:off x="4140360" y="5805360"/>
              <a:ext cx="64764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Line 10"/>
          <p:cNvSpPr/>
          <p:nvPr/>
        </p:nvSpPr>
        <p:spPr>
          <a:xfrm>
            <a:off x="550692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5435640" y="6165720"/>
            <a:ext cx="26636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,2 Diacil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416320" y="606600"/>
            <a:ext cx="42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cc33"/>
                </a:solidFill>
                <a:latin typeface="Arial"/>
              </a:rPr>
              <a:t>Síntesis de Fosfolíp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7"/>
          <p:cNvGrpSpPr/>
          <p:nvPr/>
        </p:nvGrpSpPr>
        <p:grpSpPr>
          <a:xfrm>
            <a:off x="1239840" y="1189080"/>
            <a:ext cx="6983280" cy="5553000"/>
            <a:chOff x="1239840" y="1189080"/>
            <a:chExt cx="6983280" cy="5553000"/>
          </a:xfrm>
        </p:grpSpPr>
        <p:pic>
          <p:nvPicPr>
            <p:cNvPr id="88" name="Picture 3" descr=""/>
            <p:cNvPicPr/>
            <p:nvPr/>
          </p:nvPicPr>
          <p:blipFill>
            <a:blip r:embed="rId1"/>
            <a:stretch/>
          </p:blipFill>
          <p:spPr>
            <a:xfrm>
              <a:off x="1258920" y="1241280"/>
              <a:ext cx="6964200" cy="55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4"/>
            <p:cNvSpPr/>
            <p:nvPr/>
          </p:nvSpPr>
          <p:spPr>
            <a:xfrm>
              <a:off x="1239840" y="1189080"/>
              <a:ext cx="217980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66"/>
                  </a:solidFill>
                  <a:latin typeface="Arial"/>
                </a:rPr>
                <a:t>Estrategia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1,2-diacilglicerol es activado con CD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5"/>
            <p:cNvSpPr/>
            <p:nvPr/>
          </p:nvSpPr>
          <p:spPr>
            <a:xfrm>
              <a:off x="4859280" y="1208160"/>
              <a:ext cx="223200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66"/>
                  </a:solidFill>
                  <a:latin typeface="Arial"/>
                </a:rPr>
                <a:t>Estrategia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l grupo polar es activado con CD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6"/>
          <p:cNvSpPr/>
          <p:nvPr/>
        </p:nvSpPr>
        <p:spPr>
          <a:xfrm>
            <a:off x="3495600" y="4349880"/>
            <a:ext cx="21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Arial"/>
              </a:rPr>
              <a:t>Transf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0"/>
          <p:cNvGrpSpPr/>
          <p:nvPr/>
        </p:nvGrpSpPr>
        <p:grpSpPr>
          <a:xfrm>
            <a:off x="4898880" y="1035000"/>
            <a:ext cx="3887640" cy="4536720"/>
            <a:chOff x="4898880" y="1035000"/>
            <a:chExt cx="3887640" cy="4536720"/>
          </a:xfrm>
        </p:grpSpPr>
        <p:sp>
          <p:nvSpPr>
            <p:cNvPr id="93" name="Rectangle 8"/>
            <p:cNvSpPr/>
            <p:nvPr/>
          </p:nvSpPr>
          <p:spPr>
            <a:xfrm>
              <a:off x="4898880" y="1035000"/>
              <a:ext cx="3457440" cy="347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5690880" y="4436640"/>
              <a:ext cx="3095640" cy="11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13"/>
          <p:cNvSpPr/>
          <p:nvPr/>
        </p:nvSpPr>
        <p:spPr>
          <a:xfrm>
            <a:off x="1790640" y="5643720"/>
            <a:ext cx="226404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Ej.  Fosfatidil –seri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en bacter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y levadu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6232320" y="5670720"/>
            <a:ext cx="248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Ej. Fosfatidil-Colina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Fosfatidil-Etanolam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en animales superi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58360" y="71280"/>
            <a:ext cx="81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3 CuadroTexto"/>
          <p:cNvSpPr/>
          <p:nvPr/>
        </p:nvSpPr>
        <p:spPr>
          <a:xfrm>
            <a:off x="3361320" y="3171960"/>
            <a:ext cx="590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14 CuadroTexto"/>
          <p:cNvSpPr/>
          <p:nvPr/>
        </p:nvSpPr>
        <p:spPr>
          <a:xfrm>
            <a:off x="7438320" y="3000240"/>
            <a:ext cx="16923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o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Etanol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8:40:44Z</dcterms:created>
  <dc:creator>Colossus User</dc:creator>
  <dc:description/>
  <dc:language>en-US</dc:language>
  <cp:lastModifiedBy>Your User Name</cp:lastModifiedBy>
  <dcterms:modified xsi:type="dcterms:W3CDTF">2014-05-29T23:18:26Z</dcterms:modified>
  <cp:revision>32</cp:revision>
  <dc:subject/>
  <dc:title>Funciones de los lípidos</dc:title>
</cp:coreProperties>
</file>